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CRASHBUZ.WAV" ContentType="audio/x-wav"/>
  <Override PartName="/ppt/media/image3.wmf" ContentType="image/x-wmf"/>
  <Override PartName="/ppt/media/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715-91DC-4EDE-9C81-00BA7D20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C0CE-A25F-46A8-9AE2-42046443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0050-3A99-4148-90E6-77BFA759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7387-701E-4858-9AA3-DF90617D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5C23-9329-4AC6-95C4-3F383A5D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431B-AAB6-4344-98FC-67D4701E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3668-958A-464D-8C39-11B7762C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D30E-64D2-484F-A78B-2BFE41CA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0558-52E8-44BF-8AF4-4DA680C9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CB01-CCB9-41FB-8481-D06F44B6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90B5-3671-4063-ADF6-7AC4A080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B8A-B797-4828-83F8-A96D205D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076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BACB-D186-46DF-9819-EC58093A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CAC6-4D02-47DB-8BF5-FC9DE6B7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C304-ADD0-4B51-8EA8-B22EB371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2076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4EF4-5637-419C-9646-20F02F3B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608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372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608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372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E9AF-BDA8-4220-BB42-B36D14A0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E86-FC47-4A11-8311-3DFFEF9B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1635-4F43-44F8-BE56-C74F5EB6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270D-A8B2-4EED-B09C-06F7F330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BCE0-BB18-4527-9577-56BAA856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9B5B-6B7A-47F9-8BF8-BA9A2EF9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FA78-01E3-4AEE-9167-107009A7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275-6763-4027-907F-DD13D1BB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1" marL="601560" indent="-23148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2" marL="925560" indent="-18504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3" marL="1296000" indent="-18504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4" marL="1666440" indent="-185040">
              <a:spcBef>
                <a:spcPts val="7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5" marL="1666440" indent="-185040">
              <a:spcBef>
                <a:spcPts val="7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6" marL="1666440" indent="-185040">
              <a:spcBef>
                <a:spcPts val="7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99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9933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29BF-D647-4259-9595-0E8CA65FB533}" type="slidenum">
              <a:rPr b="0" lang="ar-SA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99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9933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4E5A-23F1-4BAA-8387-23D4DB7411A9}" type="slidenum">
              <a:rPr b="0" lang="ar-SA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RASHBUZ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.wav"/><Relationship Id="rId2" Type="http://schemas.openxmlformats.org/officeDocument/2006/relationships/audio" Target="../media/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59280" y="692280"/>
            <a:ext cx="352872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الفصل الثامن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2421000"/>
            <a:ext cx="7778520" cy="277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السماء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116000" y="1268280"/>
            <a:ext cx="709920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ماذا يُوجَدُ في السَّماءِ؟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1484280"/>
            <a:ext cx="8101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</a:rPr>
              <a:t>فِي اللَّيْلِ، يُمْكِنُني رُؤْيَةُ الْغُيومِ، وَالْقَمَرِ، وَالنُّجومِ.</a:t>
            </a:r>
            <a:endParaRPr b="0" lang="en-US" sz="66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050920" y="3933720"/>
            <a:ext cx="30974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26920" y="2852640"/>
            <a:ext cx="781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أَجْسامٌ مُضِيْئَةٌ، تُكَوِّنُ أَشْكالاً جَمِيْلَةً في السَّماءِ. تَبْدو النُّجومُ صَغيرَةً جدًّا؛ لأَنَّها بَعيدةٌ جِدًّا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27280" y="907920"/>
            <a:ext cx="40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00ff"/>
                </a:solidFill>
                <a:latin typeface="Times New Roman"/>
              </a:rPr>
              <a:t>النُّجومُ</a:t>
            </a:r>
            <a:r>
              <a:rPr b="1" lang="ar-SA" sz="66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4437000"/>
            <a:ext cx="324000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RASHBU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11280" y="836640"/>
            <a:ext cx="4969080" cy="1152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9900"/>
              </a:gs>
              <a:gs pos="50000">
                <a:srgbClr val="ff9900"/>
              </a:gs>
              <a:gs pos="100000">
                <a:srgbClr val="cc9900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993300"/>
                </a:solidFill>
                <a:latin typeface="Times New Roman"/>
              </a:rPr>
              <a:t>الشَّمْسُ</a:t>
            </a: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2276640"/>
            <a:ext cx="7812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أَقْرَبُ النَّجومِ إِلى الأَرْضِ. وَهِيَ تُضيءُ السَّماءَ وَالأَرْضَ أَثْناءَ النَّهارِ. فَسُبْحَانَ اللهِ خَالِقِ كُلِّ شَيءٍ</a:t>
            </a: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4797360"/>
            <a:ext cx="27748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1484280"/>
            <a:ext cx="7812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في النَّهارِ، يَكونُ ضَوْءُ الشَّمْسِ ساطِعًا جِدًّا، فَلا أسْتَطِيْعُ رُؤْيَةَ نُجُوْمٍ أُخْرى. لَكِنَّ هَذِهِ النُّجومَ مَوْجودَةٌ في السَّماءِ</a:t>
            </a: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388764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03640" y="115920"/>
            <a:ext cx="3673440" cy="1152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9900"/>
              </a:gs>
              <a:gs pos="50000">
                <a:srgbClr val="ff9900"/>
              </a:gs>
              <a:gs pos="100000">
                <a:srgbClr val="cc9900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ماذا يوجد فى السماء</a:t>
            </a: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1413000"/>
            <a:ext cx="8388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يُوْجَدُ فِي السَّمَاءِ أَجْسَامٌ كَبِيْرَةٌ، لا يُمْكِنُني رُؤْيَتُهَا بِسُهُوْلَةٍ أَثْنَاءَ اللَّيْلِ، تُسَمَّى كَوَاكِبَ. تَدُوْرُ الكَوَاكِبُ حَوْلَ الشَّمْسِ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الأَرْضُ كَوْكَبٌ يَدُوْرُ حَوْلَ الشَّمْسِ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فَالسَّمَاءُ بِنَاءٌ مُحْكَمٌ أَتْقَنَ الْخَالِقُ صُنْعَهُ بِقُدْرَتِهِ وَحِكْمَتِهِ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قَالَ تَعَالَى:</a:t>
            </a: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" </a:t>
            </a:r>
            <a:r>
              <a:rPr b="1" lang="ar-SA" sz="4000" spc="-1" strike="noStrike">
                <a:solidFill>
                  <a:srgbClr val="ff00ff"/>
                </a:solidFill>
                <a:latin typeface="Times New Roman"/>
              </a:rPr>
              <a:t>ءأنتم أشد خلقا أم السماء بنها " النازعات</a:t>
            </a:r>
            <a:r>
              <a:rPr b="1" lang="ar-SA" sz="40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194328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55640" y="2637000"/>
            <a:ext cx="795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الشَّمْسُ وَالنُّجومُ الأُخْرى تُصْدِرُ حَرارَةً وَضَوْءاً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حَرَارَةُ الشَّمْسِ وَضَوْؤهَا يُسَخِّنَانِ الْهَواءَ، وَالْيَابِسَةَ، وَالْماءَ</a:t>
            </a: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0160" y="836640"/>
            <a:ext cx="81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00ff"/>
                </a:solidFill>
                <a:latin typeface="Times New Roman"/>
              </a:rPr>
              <a:t>ما أَهَمِّيَّةُ الشَّمْسِ؟</a:t>
            </a:r>
            <a:endParaRPr b="0" lang="en-US" sz="72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29T10:53:08Z</dcterms:modified>
  <cp:revision>45</cp:revision>
  <dc:subject/>
  <dc:title>PowerPoint Presentation</dc:title>
</cp:coreProperties>
</file>